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80160" y="1114920"/>
            <a:ext cx="6583320" cy="83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80160" y="2090880"/>
            <a:ext cx="6583320" cy="13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280160" y="3614400"/>
            <a:ext cx="6583320" cy="13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80160" y="1114920"/>
            <a:ext cx="6583320" cy="83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280160" y="2090880"/>
            <a:ext cx="3212640" cy="13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53720" y="2090880"/>
            <a:ext cx="3212640" cy="13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280160" y="3614400"/>
            <a:ext cx="3212640" cy="13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53720" y="3614400"/>
            <a:ext cx="3212640" cy="13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80160" y="1114920"/>
            <a:ext cx="6583320" cy="83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80160" y="2090880"/>
            <a:ext cx="2119680" cy="13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06040" y="2090880"/>
            <a:ext cx="2119680" cy="13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732280" y="2090880"/>
            <a:ext cx="2119680" cy="13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1280160" y="3614400"/>
            <a:ext cx="2119680" cy="13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06040" y="3614400"/>
            <a:ext cx="2119680" cy="13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732280" y="3614400"/>
            <a:ext cx="2119680" cy="13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280160" y="1114920"/>
            <a:ext cx="6583320" cy="83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1280160" y="2090880"/>
            <a:ext cx="6583320" cy="29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280160" y="1114920"/>
            <a:ext cx="6583320" cy="83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1280160" y="2090880"/>
            <a:ext cx="6583320" cy="29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80160" y="1114920"/>
            <a:ext cx="6583320" cy="83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280160" y="2090880"/>
            <a:ext cx="3212640" cy="29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53720" y="2090880"/>
            <a:ext cx="3212640" cy="29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80160" y="1114920"/>
            <a:ext cx="6583320" cy="83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1280160" y="1114920"/>
            <a:ext cx="6583320" cy="38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80160" y="1114920"/>
            <a:ext cx="6583320" cy="83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80160" y="2090880"/>
            <a:ext cx="3212640" cy="13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3720" y="2090880"/>
            <a:ext cx="3212640" cy="29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1280160" y="3614400"/>
            <a:ext cx="3212640" cy="13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80160" y="1114920"/>
            <a:ext cx="6583320" cy="83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80160" y="2090880"/>
            <a:ext cx="3212640" cy="29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3720" y="2090880"/>
            <a:ext cx="3212640" cy="13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53720" y="3614400"/>
            <a:ext cx="3212640" cy="13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80160" y="1114920"/>
            <a:ext cx="6583320" cy="83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80160" y="2090880"/>
            <a:ext cx="3212640" cy="13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3720" y="2090880"/>
            <a:ext cx="3212640" cy="13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80160" y="3614400"/>
            <a:ext cx="6583320" cy="13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" descr=""/>
          <p:cNvPicPr/>
          <p:nvPr/>
        </p:nvPicPr>
        <p:blipFill>
          <a:blip r:embed="rId1"/>
          <a:stretch/>
        </p:blipFill>
        <p:spPr>
          <a:xfrm>
            <a:off x="228600" y="498600"/>
            <a:ext cx="8547120" cy="57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 </dc:creator>
  <dc:description/>
  <dc:language>en-US</dc:language>
  <cp:lastModifiedBy> </cp:lastModifiedBy>
  <cp:revision>0</cp:revision>
  <dc:subject/>
  <dc:title>Slide 1</dc:title>
</cp:coreProperties>
</file>